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D58-0B45-4AAD-B018-1E77E72D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84A-595D-427F-9049-A5781B50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8BD-BC1B-4656-B759-DF937448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80E-F124-4652-8009-330FE8D4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9A4E-A299-4608-BDDA-CDAEDD10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5B93-D00D-4324-96AC-2AE3A33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1E34-0428-46CF-AB06-A65C5641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124C-026F-43F6-963B-DA46A0F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2414-A81E-4EAB-B0FB-E08819E0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51D4-0E11-41A3-8B78-AD318AED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652D-95AC-4405-8D1F-D8E6407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7CC-B5F8-4178-8EF3-FD442222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2097-28FF-4646-A010-9DB01A3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2536-44CC-416C-A9E4-601EB440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62DA-86D5-462C-9FDA-C17C5310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9274-791B-48B9-BAAC-8C20E296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B31-440F-432A-B5BF-5499F58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114-C4E0-4FFA-822E-6B1ED45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4C1-8E84-41B2-905A-1562A4D2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BC0-5CDF-4955-889D-258F242F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973-34D2-4B3A-B5A2-2FD62BFE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071-FDDA-49EE-A9FF-42D393BD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AAB-5F99-44FC-8D0F-AA3BFCC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C6D-1FEA-447E-B212-5E874817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22CF-4D21-4FFC-B0C4-E931CD97D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CF0-3933-4247-8D14-26626671DE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INTRODUCTION TO JAVASCRIP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Operators -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son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Karşılaştırma işleci, iki ya da daha çok değeri birbiriyle karşılaştırarak True ya da False olarak mantıksal bir değer döndürür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648320" y="1600200"/>
          <a:ext cx="4194000" cy="4321080"/>
        </p:xfrm>
        <a:graphic>
          <a:graphicData uri="http://schemas.openxmlformats.org/drawingml/2006/table">
            <a:tbl>
              <a:tblPr/>
              <a:tblGrid>
                <a:gridCol w="931680"/>
                <a:gridCol w="1812960"/>
                <a:gridCol w="1449360"/>
              </a:tblGrid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equal 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==8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equal to (checks for both value and typ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"5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=y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==y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not equ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!=8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greater th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gt;8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less th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lt;8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greater than or equal 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gt;=8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less than or equal 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lt;=8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Operators -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İkili işleçler birden çok karşılaştırma işlemini tek bir koşul ifadesi olarak birleştirirler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648320" y="1600200"/>
          <a:ext cx="4193640" cy="4498560"/>
        </p:xfrm>
        <a:graphic>
          <a:graphicData uri="http://schemas.openxmlformats.org/drawingml/2006/table">
            <a:tbl>
              <a:tblPr/>
              <a:tblGrid>
                <a:gridCol w="1425960"/>
                <a:gridCol w="1327320"/>
                <a:gridCol w="1440360"/>
              </a:tblGrid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amp;&amp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 &lt; 10 &amp;&amp; y &gt; 1)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|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==5 || y==5)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(x==y)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Basic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.write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script&gt;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mat text with HTML code - hea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rt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3645000"/>
            <a:ext cx="784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=“Hello World!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.write(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=“İsminizi Yazın…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.write(“Merhaba” +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/script&gt;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use line break html c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Popup Box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rt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lert box is often used if you want to make sure information comes through to the us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n alert box pops up, the user will have to click "OK" to proce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rt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Popup Boxes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irm Box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nfirm box is often used if you want the user to verify or accept somet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confirm box pops up, the user will have to click either "OK" or "Cancel" to proce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user clicks "OK", the box returns true. If the user clicks "Cancel", the box returns fal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Popup Boxes -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pt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ompt box is often used if you want the user to input a value before entering a p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prompt box pops up, the user will have to click either "OK" or "Cancel" to proceed after entering an input valu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user clicks "OK“, the box returns the input value. If the user clicks "Cancel“, the box returns nu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mpt Box Exam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=prompt (“Adınızı Yazınız”, “ 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.write(“Merhaba &lt;br&gt;”,+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S Examples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18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20x+12 ve x=3 ise, sonucu açılan pencerede gösteren kod nasıl yazılmalıdı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2997360"/>
            <a:ext cx="854064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20*x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rt(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 -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70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1=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2=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lam=s1+s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.write("Sayıların toplamı: "+topla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vaScript is used in millions of Web pages to improve the design, validate forms, detect browsers, create cookies, and much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vaScript is the most popular scripting language on the internet, and works in all major browsers, such as Internet Explorer, Mozilla, Firefox, Netscape, Op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 -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2493720"/>
            <a:ext cx="8785440" cy="41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1=1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2=28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oplam=s1+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rk=s1-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arp=s1*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ol=s1/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ocument.write("&lt;br&gt;Değişkenlerdeki sayılarla ilgili aritmetik işlemler...&lt;br&gt;"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ocument.write("&lt;br&gt;Sayıların toplamı: "+toplam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ocument.write("&lt;br&gt;Sayıların farkı: "+fark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ocument.write("&lt;br&gt;Sayıların çarpımı: "+carp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ocument.write("&lt;br&gt;1.sayının 2.sayıya bölümü: "+bol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lert("Hesaplamalar sona erdi!"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&lt;/script &g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1197000"/>
            <a:ext cx="878544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1=12, s2=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 değişkenlere ait sayıların toplamlarını, farklarını, çarpımlarını ve bölümlerini ayrı satırlarda gösteren ve son olarak ekrana “Hesaplamalar sona erdi” yazısını çıkaran js kodunu oluşturunu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ditional State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often when you write code, you want to perform different actions for different decisions. You can use conditional statements in your code to do th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JavaScript we have the following conditional statemen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state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use this statement if you want to execute some code only if a specified condition is tru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...else state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use this statement if you want to execute some code if the condition is true and another code if the condition is fal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...else if....else state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use this statement if you want to select one of many blocks of code to be execu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witch state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use this statement if you want to select one of many blocks of code to be execu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ditional Statements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ondi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ode to be executed if condition is tr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(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ondi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ode to be executed if condition is tr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ode to be executed if condition is not tr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3213000"/>
            <a:ext cx="813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ditional Statements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1120"/>
            <a:ext cx="8540640" cy="434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=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(x&lt;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 (“negatif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 (“pozitif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ditional Statements Examples -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27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=confirm(“Kitap Okuyor musunuz?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 (“tebrikler walla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 (“ayıp ettiniz ama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ditional Statements Examples -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=prompt("Ankara'nın plaka numarası nedir?", " 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(p=="06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("Doğru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("Yanlış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JAVASCRIP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avaScript was designed to add interactivity to HTML page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avaScript is a scripting language (a scripting language is a lightweight programming language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JavaScript consists of lines of executable computer cod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JavaScript is usually embedded directly into HTML page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avaScript is an interpreted language (means that scripts execute without preliminary compilation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ryone can use JavaScript without purchasing a licen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e Java and JavaScript the Same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va and JavaScript are two completely different languages in both concept and desig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va (developed by Sun Microsystems) is a powerful and much more complex programming language - in the same category as C and C++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to Put a JavaScript Into an HTML Pag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html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body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script type="text/javascript"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.write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body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html&g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nding Statements With a Semicolon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raditional programming languages, like C++ and Java, each code statement has to end with a semicolon (;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rogrammers continue this habit when writing JavaScript, but in general, semicolons ar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 However, semicolons are required if you want to put more than one statement on a singl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Variabl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bles are used to store da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variable is a "container" for information you want to store. A variable's value can change during the script. You can refer to a variable by name to see its value or to change its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s for variable na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ble names are case sensi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must begin with a letter or the underscore charac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name – STRNAME (not sa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Opera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ithmetic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İşleçler, iki ya da daha fazla değer üzerinde işlem yapılmasını sağlar. JavaScript içinde aritmetik ve hesaplama işleçleri olmak üzere iki tür işleç kullanılır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648320" y="1600200"/>
          <a:ext cx="4194000" cy="4743360"/>
        </p:xfrm>
        <a:graphic>
          <a:graphicData uri="http://schemas.openxmlformats.org/drawingml/2006/table">
            <a:tbl>
              <a:tblPr/>
              <a:tblGrid>
                <a:gridCol w="876240"/>
                <a:gridCol w="1423800"/>
                <a:gridCol w="1252800"/>
                <a:gridCol w="641160"/>
              </a:tblGrid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trac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-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i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*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/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/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ulus (division remain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r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vaScript Operators –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gnment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Atama deyimi (=), bir değişkene bir değerin atanmasını sağlar. Değişkenlere türlerine ve tanımlamalarına uygun olan herhangi bir değer atanabilir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648320" y="1600200"/>
          <a:ext cx="4193640" cy="4498200"/>
        </p:xfrm>
        <a:graphic>
          <a:graphicData uri="http://schemas.openxmlformats.org/drawingml/2006/table">
            <a:tbl>
              <a:tblPr/>
              <a:tblGrid>
                <a:gridCol w="1183320"/>
                <a:gridCol w="1095840"/>
                <a:gridCol w="1914480"/>
              </a:tblGrid>
              <a:tr h="974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The Same 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+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-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-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*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*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/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/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%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%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5:58:21Z</dcterms:created>
  <dc:creator>Elif&amp;Mete Yaman</dc:creator>
  <dc:description/>
  <dc:language>en-US</dc:language>
  <cp:lastModifiedBy>Mete Yaman</cp:lastModifiedBy>
  <dcterms:modified xsi:type="dcterms:W3CDTF">2006-05-12T05:51:40Z</dcterms:modified>
  <cp:revision>24</cp:revision>
  <dc:subject/>
  <dc:title>INTRODUCTION TO JAVASCRIPT</dc:title>
</cp:coreProperties>
</file>